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gif" ContentType="image/gif"/>
  <Override PartName="/ppt/media/image16.gif" ContentType="image/gif"/>
  <Override PartName="/ppt/media/image2.png" ContentType="image/png"/>
  <Override PartName="/ppt/media/image15.jpeg" ContentType="image/jpeg"/>
  <Override PartName="/ppt/media/image9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7D8-8760-4783-B00B-CED3F157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745-370F-4DDE-8D28-BCA08C4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6B9-ADE9-4C21-8376-D65ADEBE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CFC-1ADE-4B54-91C7-FF734326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9AD-5EAB-4A99-A4DE-F1149FDB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68B-7B92-42A2-9799-11D351C7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806-73A5-44F5-8335-4BE296A7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CA6-BA7F-4745-87F6-D74113E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993-982C-4E87-A844-74B4925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D20-E258-457E-A0CA-2E24813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1DF-F68F-4644-B3D9-E6C7E61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1F8-4C92-4ECE-90C1-BABFA89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D5A-37B0-4058-9C86-515038D4D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hyperlink" Target="http://www.ziqu.com/bbs/660100/2/4713.html" TargetMode="External"/><Relationship Id="rId5" Type="http://schemas.openxmlformats.org/officeDocument/2006/relationships/image" Target="../media/image11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hyperlink" Target="http://www.ziqu.com/bbs/660100/2/4713.html" TargetMode="External"/><Relationship Id="rId14" Type="http://schemas.openxmlformats.org/officeDocument/2006/relationships/image" Target="../media/image11.gif"/><Relationship Id="rId1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2280" y="549360"/>
            <a:ext cx="4586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000800" y="0"/>
            <a:ext cx="21913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怕吃苦莫入此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52680" y="0"/>
            <a:ext cx="21913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寻清闲另觅他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1557360"/>
            <a:ext cx="6120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新起点新征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07--13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第一次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班内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进入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班内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进入年级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7239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教室桌椅整齐划一、教室地面及四壁无污迹、张贴纸张整齐美观、板报整齐美观内容鲜明积极向上（教室卫生监督员负责检查与督促相关人员整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宿舍被褥整齐划一、宿舍地面及四壁无污迹、张贴纸张整齐美观、物品摆放整齐一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宿舍卫生监督员负责加查卫生与督促相关人员整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清洁区无污迹干净整洁（卫生委员负责检查与督促相关人员整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1508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卫生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917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教室做到无迟到早退、上课做到坐的直听得清无趴课桌现象、自习课无交谈情况（每组最左的同学为组长负责组内纪律，组长向纪检委员负责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宿舍做到铃响灯灭声息做到无洗漱交谈吃喝现象（宿舍长负责监督制止相关人员的违纪行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早操做到站姿端正、行列成线、步伐整齐、口号响亮，在行进过程中无交谈打闹现象。（每排最左的同学为排长、每列最后同学为列长，负责各自队伍的整齐与纪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纪律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252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今天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：</a:t>
            </a:r>
            <a:br>
              <a:rPr sz="4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我们站在同一起跑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1180800" cy="857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77080" y="4941720"/>
            <a:ext cx="1181160" cy="857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500720" y="907920"/>
            <a:ext cx="1657080" cy="1022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5364000" y="2492280"/>
            <a:ext cx="1586160" cy="978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1513080" cy="932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7236000" y="5589720"/>
            <a:ext cx="1657080" cy="102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95640" y="476280"/>
            <a:ext cx="3529080" cy="638172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3640" y="33336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2492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12536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213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7040" y="70358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21337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77000" y="4076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54936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83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7000" y="126828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05520" y="0"/>
            <a:ext cx="13993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天的成就是因为昨天的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4680" y="0"/>
            <a:ext cx="13993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天的成功有赖于今天的努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mingb161.gif (6652 bytes)"/>
          <p:cNvPicPr/>
          <p:nvPr/>
        </p:nvPicPr>
        <p:blipFill>
          <a:blip r:embed="rId1"/>
          <a:stretch/>
        </p:blipFill>
        <p:spPr>
          <a:xfrm>
            <a:off x="0" y="0"/>
            <a:ext cx="1992240" cy="1666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我正在到达成功的途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411600">
            <a:off x="831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2421000"/>
            <a:ext cx="1176480" cy="117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2205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2720" y="141300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852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7440" y="2924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443700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1440" y="587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61080" y="162864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9080" y="15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335592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637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028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5800" y="4653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4003560"/>
            <a:ext cx="146700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734080"/>
            <a:ext cx="146664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380360" y="83664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692360" y="43657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 rot="1111800">
            <a:off x="5292720" y="530028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516720" y="220500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 rot="1181400">
            <a:off x="5866920" y="4005360"/>
            <a:ext cx="1187640" cy="118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 rot="1466400">
            <a:off x="7667280" y="364500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 rot="1519800">
            <a:off x="3276360" y="3789000"/>
            <a:ext cx="1187280" cy="11872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84360" y="765000"/>
            <a:ext cx="539640" cy="360360"/>
            <a:chOff x="684360" y="765000"/>
            <a:chExt cx="539640" cy="360360"/>
          </a:xfrm>
        </p:grpSpPr>
        <p:sp>
          <p:nvSpPr>
            <p:cNvPr id="129" name=""/>
            <p:cNvSpPr/>
            <p:nvPr/>
          </p:nvSpPr>
          <p:spPr>
            <a:xfrm>
              <a:off x="719280" y="765000"/>
              <a:ext cx="468360" cy="3603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46440 h 360360"/>
                <a:gd name="textAreaBottom" fmla="*/ 3139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765000"/>
              <a:ext cx="5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00"/>
                  </a:solidFill>
                  <a:latin typeface="Arial"/>
                </a:rPr>
                <a:t>成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71640" y="5681520"/>
            <a:ext cx="117648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13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但，成功，离我们还很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在还没有到达成功的终点之前，我们一直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flipH="1">
            <a:off x="826560" y="2133720"/>
            <a:ext cx="11163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 flipH="1">
            <a:off x="5940360" y="1557360"/>
            <a:ext cx="2160720" cy="1305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 flipH="1">
            <a:off x="1331640" y="4797360"/>
            <a:ext cx="115236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 flipH="1">
            <a:off x="7092720" y="4365720"/>
            <a:ext cx="108108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 flipH="1">
            <a:off x="1116000" y="3233880"/>
            <a:ext cx="1728720" cy="833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 flipH="1">
            <a:off x="3203640" y="1844640"/>
            <a:ext cx="1800000" cy="107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 flipH="1">
            <a:off x="4932360" y="4869000"/>
            <a:ext cx="1944720" cy="1096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34290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奋力奔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51664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2852640"/>
            <a:ext cx="1466640" cy="60984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77000" y="5661000"/>
            <a:ext cx="1467000" cy="609480"/>
          </a:xfrm>
          <a:custGeom>
            <a:avLst/>
            <a:gdLst/>
            <a:ahLst/>
            <a:rect l="l" t="t" r="r" b="b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 flipH="1">
            <a:off x="6804000" y="2997360"/>
            <a:ext cx="2016000" cy="1035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 flipH="1">
            <a:off x="2843280" y="4508640"/>
            <a:ext cx="180000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4076640"/>
            <a:ext cx="684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什么叫痛苦？   什么叫幸福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83200" y="509256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经历残酷的高考，你又如何去体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549360"/>
            <a:ext cx="75596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在高中生活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不少同学在那里大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痛苦 煎熬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954000"/>
            <a:ext cx="8569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很久以前，乌龟与兔子之间发生了争论，它们都说自己跑得比对方快。于是它们决定通过比赛来一决雌雄。确定了路线之后它们就开始跑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一个箭步冲到了前面，并且一路领先。看到乌龟被远远抛在了后面，兔子觉得，自己应该先在树下休息一会儿，然后再继续比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是，它在树下坐了下来，并且很快睡着了。乌龟慢慢地超过了它，并且完成了整个赛程，无可争辩地当上了冠军。兔子醒了过来，发现自己输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59080" y="5703840"/>
            <a:ext cx="976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一：稳步前进者往往能够获得最终的胜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26028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行楷"/>
              </a:rPr>
              <a:t>三代龟兔赛跑对我们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7440" y="907920"/>
            <a:ext cx="8675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因为输掉了比赛而感到失望，它做了一些失利原因的分析。兔子发现，自己失败只是因为过于自信而导致粗心大意、疏于防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它不那么自以为是，乌龟根本没有获胜的可能。于是兔子向乌龟提出挑战：再比一次。乌龟同意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是在这一次比赛中，兔子全力以赴，毫不停歇地从起点跑到了终点。它把乌龟甩在几公里之后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85000" y="55897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二：迅速并且坚持下去一定能打败又稳又慢的对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班会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班级文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班级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超越梦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1592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这里故事还没有结束。这一次，乌龟又动了动脑筋，它意识到，以当前的比赛形式，它是不可能在比赛中胜过兔子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想了一阵子，然后向兔子发出了新的挑战，它要跟兔子再比一次，但是比赛路线会有所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同意了。它们出发后，兔子遵循了原先的策略，坚持以最快的速度飞跑，直到面前出现了一条大河。终点位于河对岸两公里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兔子坐了下来，思忖着下一步该怎么办。这时，乌龟赶了上来，它跳进了河里，游到了对岸，并继续向前迈进，最终达到了终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5740560"/>
            <a:ext cx="856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三：首先应该找出自己的核心竞争力，然后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适合展现自己核心竞争力的比赛场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故事还有更新的版本。兔子和乌龟成了很要好的朋友，它们决定再比试一次，但是这次，它们两个作为一个团队的成员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出发了，这一次兔子扛着乌龟跑到了岸边，然后，相互对调了一下，乌龟驮着兔子游到了对岸。到了对岸之后，兔子又把乌龟扛了起来，最后，两人一齐冲过了终点线。两人都感到了莫大的满足感，比独自获胜还高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2000" y="4076640"/>
            <a:ext cx="87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启示四：某个人工作出色、有很强的核心竞争力是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事，但是除非你能够在一个团队中工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运用好每个人的核心竞争力，否则你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发现心有余而力不足，因为有些时候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弱项正好是别人的强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1779480" y="-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1339920" y="-982800"/>
            <a:ext cx="8264520" cy="8656560"/>
            <a:chOff x="-1339920" y="-982800"/>
            <a:chExt cx="8264520" cy="8656560"/>
          </a:xfrm>
        </p:grpSpPr>
        <p:sp>
          <p:nvSpPr>
            <p:cNvPr id="161" name=""/>
            <p:cNvSpPr/>
            <p:nvPr/>
          </p:nvSpPr>
          <p:spPr>
            <a:xfrm>
              <a:off x="-1339920" y="-982800"/>
              <a:ext cx="8264520" cy="8656560"/>
            </a:xfrm>
            <a:prstGeom prst="rect">
              <a:avLst/>
            </a:prstGeom>
            <a:solidFill>
              <a:srgbClr val="006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-1339920" y="-982800"/>
              <a:ext cx="8264520" cy="8656560"/>
              <a:chOff x="-1339920" y="-982800"/>
              <a:chExt cx="8264520" cy="865656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-1339920" y="-982800"/>
                <a:ext cx="8264520" cy="8656560"/>
                <a:chOff x="-1339920" y="-982800"/>
                <a:chExt cx="8264520" cy="8656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-1339920" y="-982800"/>
                  <a:ext cx="8264520" cy="360"/>
                </a:xfrm>
                <a:prstGeom prst="rect">
                  <a:avLst/>
                </a:prstGeom>
                <a:solidFill>
                  <a:srgbClr val="006d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-1339920" y="-982800"/>
                  <a:ext cx="7908840" cy="8656560"/>
                  <a:chOff x="-1339920" y="-982800"/>
                  <a:chExt cx="7908840" cy="865656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-1339920" y="-982800"/>
                    <a:ext cx="7908840" cy="8656560"/>
                    <a:chOff x="-1339920" y="-982800"/>
                    <a:chExt cx="7908840" cy="865656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-1339920" y="-982800"/>
                      <a:ext cx="7908840" cy="8656560"/>
                      <a:chOff x="-1339920" y="-982800"/>
                      <a:chExt cx="7908840" cy="865656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-1339920" y="-982800"/>
                        <a:ext cx="7908840" cy="360"/>
                      </a:xfrm>
                      <a:prstGeom prst="rect">
                        <a:avLst/>
                      </a:prstGeom>
                      <a:solidFill>
                        <a:srgbClr val="006da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-1339920" y="-982800"/>
                        <a:ext cx="7908840" cy="8656560"/>
                      </a:xfrm>
                      <a:prstGeom prst="rect">
                        <a:avLst/>
                      </a:prstGeom>
                      <a:solidFill>
                        <a:srgbClr val="006da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9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_x000b__x000c_"/>
                          </a:rPr>
                          <a:t>  </a:t>
                        </a:r>
                        <a:r>
                          <a:rPr b="0" lang="zh-CN" sz="553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_x000b__x000c_"/>
                          </a:rPr>
                          <a:t> </a:t>
                        </a:r>
                        <a:r>
                          <a:rPr b="0" lang="zh-CN" sz="9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_x000b__x000c_"/>
                          </a:rPr>
  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-1339920" y="-982800"/>
                      <a:ext cx="7908840" cy="8656560"/>
                    </a:xfrm>
                    <a:prstGeom prst="rect">
                      <a:avLst/>
                    </a:prstGeom>
                    <a:solidFill>
                      <a:srgbClr val="006da2"/>
                    </a:solidFill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-1339920" y="-982800"/>
                    <a:ext cx="7908840" cy="8656560"/>
                  </a:xfrm>
                  <a:prstGeom prst="rect">
                    <a:avLst/>
                  </a:prstGeom>
                  <a:solidFill>
                    <a:srgbClr val="006da2"/>
                  </a:solidFill>
                  <a:ln w="0">
                    <a:solidFill>
                      <a:srgbClr val="004f7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-1339920" y="-982800"/>
                <a:ext cx="8264520" cy="8656560"/>
              </a:xfrm>
              <a:prstGeom prst="rect">
                <a:avLst/>
              </a:prstGeom>
              <a:noFill/>
              <a:ln w="0">
                <a:solidFill>
                  <a:srgbClr val="004f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990720" y="-914400"/>
            <a:ext cx="11704680" cy="8778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1484280"/>
            <a:ext cx="10513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每天认真一点是进步的开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每天进步一点是成功的开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每天成功一点是卓越的开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627280" y="2492280"/>
            <a:ext cx="360036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团结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468360" y="-1108080"/>
            <a:ext cx="9612360" cy="8991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411200" y="1700280"/>
            <a:ext cx="64008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拿什么奉献给你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－－我的     班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991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838080" y="3124080"/>
            <a:ext cx="8020080" cy="66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战斗的集体需要铁的纪律！</a:t>
            </a:r>
            <a:endParaRPr b="1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600200" y="2438280"/>
            <a:ext cx="601992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文明宿舍表彰会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-500040" y="-2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60480" y="-22320"/>
            <a:ext cx="8264520" cy="6811920"/>
            <a:chOff x="-60480" y="-22320"/>
            <a:chExt cx="8264520" cy="6811920"/>
          </a:xfrm>
        </p:grpSpPr>
        <p:sp>
          <p:nvSpPr>
            <p:cNvPr id="185" name=""/>
            <p:cNvSpPr/>
            <p:nvPr/>
          </p:nvSpPr>
          <p:spPr>
            <a:xfrm>
              <a:off x="-60480" y="-22320"/>
              <a:ext cx="8264520" cy="6811920"/>
            </a:xfrm>
            <a:prstGeom prst="rect">
              <a:avLst/>
            </a:prstGeom>
            <a:solidFill>
              <a:srgbClr val="006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-60480" y="-22320"/>
              <a:ext cx="8264520" cy="6811920"/>
              <a:chOff x="-60480" y="-22320"/>
              <a:chExt cx="8264520" cy="68119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-60480" y="-22320"/>
                <a:ext cx="8264520" cy="6811920"/>
                <a:chOff x="-60480" y="-22320"/>
                <a:chExt cx="8264520" cy="6811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-60480" y="-22320"/>
                  <a:ext cx="8264520" cy="360"/>
                </a:xfrm>
                <a:prstGeom prst="rect">
                  <a:avLst/>
                </a:prstGeom>
                <a:solidFill>
                  <a:srgbClr val="006d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-60480" y="-22320"/>
                  <a:ext cx="7908840" cy="6811920"/>
                  <a:chOff x="-60480" y="-22320"/>
                  <a:chExt cx="7908840" cy="681192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-60480" y="-22320"/>
                    <a:ext cx="7908840" cy="6811920"/>
                    <a:chOff x="-60480" y="-22320"/>
                    <a:chExt cx="7908840" cy="681192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-60480" y="-22320"/>
                      <a:ext cx="7908840" cy="6811920"/>
                      <a:chOff x="-60480" y="-22320"/>
                      <a:chExt cx="7908840" cy="6811920"/>
                    </a:xfrm>
                  </p:grpSpPr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-60480" y="-22320"/>
                        <a:ext cx="7908840" cy="360"/>
                      </a:xfrm>
                      <a:prstGeom prst="rect">
                        <a:avLst/>
                      </a:prstGeom>
                      <a:solidFill>
                        <a:srgbClr val="006da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-60480" y="-22320"/>
                        <a:ext cx="7908840" cy="6811920"/>
                      </a:xfrm>
                      <a:prstGeom prst="rect">
                        <a:avLst/>
                      </a:prstGeom>
                      <a:solidFill>
                        <a:srgbClr val="006da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9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_x000b__x000c_"/>
                          </a:rPr>
                          <a:t>  </a:t>
                        </a:r>
                        <a:r>
                          <a:rPr b="0" lang="zh-CN" sz="4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_x000b__x000c_"/>
                          </a:rPr>
                          <a:t> </a:t>
                        </a:r>
                        <a:r>
                          <a:rPr b="0" lang="zh-CN" sz="9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_x000b__x000c_"/>
                          </a:rPr>
  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-60480" y="-22320"/>
                      <a:ext cx="7908840" cy="6811920"/>
                    </a:xfrm>
                    <a:prstGeom prst="rect">
                      <a:avLst/>
                    </a:prstGeom>
                    <a:solidFill>
                      <a:srgbClr val="006da2"/>
                    </a:solidFill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5" name=""/>
                  <p:cNvSpPr/>
                  <p:nvPr/>
                </p:nvSpPr>
                <p:spPr>
                  <a:xfrm>
                    <a:off x="-60480" y="-22320"/>
                    <a:ext cx="7908840" cy="6811920"/>
                  </a:xfrm>
                  <a:prstGeom prst="rect">
                    <a:avLst/>
                  </a:prstGeom>
                  <a:solidFill>
                    <a:srgbClr val="006da2"/>
                  </a:solidFill>
                  <a:ln w="0">
                    <a:solidFill>
                      <a:srgbClr val="004f7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>
                <a:off x="-60480" y="-22320"/>
                <a:ext cx="8264520" cy="6811920"/>
              </a:xfrm>
              <a:prstGeom prst="rect">
                <a:avLst/>
              </a:prstGeom>
              <a:noFill/>
              <a:ln w="0">
                <a:solidFill>
                  <a:srgbClr val="004f7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0584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371600" y="3276720"/>
            <a:ext cx="7315200" cy="121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我们这个年龄</a:t>
            </a:r>
            <a:endParaRPr b="0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2060640"/>
            <a:ext cx="9144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超越梦想放飞希望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484360" y="2133720"/>
            <a:ext cx="4321080" cy="17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班级文化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用青春的名义宣誓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行健，我们以自强不息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势坤，我们以厚德载物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喜欢挑战，勇于挑战，善于挑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我们前进的不竭动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!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学习——切问近思 博学笃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纪律——以德为备 严于律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卫生——窗明几净 一尘不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出操——整齐划一 气势如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了一个共同的目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团结拼搏，我们竞争向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对自己负责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7--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而自豪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因我而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332000" y="3645000"/>
            <a:ext cx="6985080" cy="182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团结竞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43280" y="549360"/>
            <a:ext cx="36720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班级精神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78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16360" y="333360"/>
            <a:ext cx="3671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班级口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508720" y="2492280"/>
            <a:ext cx="237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班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7760"/>
            <a:ext cx="71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真心英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我心中曾经有一个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用歌声让你忘了所有的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灿烂星空谁是真的英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凡的人们给我最多感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没有恨也没有了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愿人间处处都有爱的影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我们的歌换你真心笑容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祝福你的人生从此与众不同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把握生命里的每一分钟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全力以赴我 们心中的梦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经历风雨怎么见彩虹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没有人能随随便便成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握生命里每一次感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心爱的朋友热情相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真心的话和开心的泪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你我的心里流动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1640" y="5589720"/>
            <a:ext cx="865440" cy="71892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6000" h="21600">
                <a:moveTo>
                  <a:pt x="0" y="0"/>
                </a:moveTo>
                <a:lnTo>
                  <a:pt x="26000" y="0"/>
                </a:lnTo>
                <a:lnTo>
                  <a:pt x="26000" y="21600"/>
                </a:lnTo>
                <a:lnTo>
                  <a:pt x="0" y="21600"/>
                </a:lnTo>
                <a:close/>
              </a:path>
              <a:path fill="lightenLess" w="26000" h="21600">
                <a:moveTo>
                  <a:pt x="0" y="0"/>
                </a:moveTo>
                <a:lnTo>
                  <a:pt x="26000" y="0"/>
                </a:lnTo>
                <a:lnTo>
                  <a:pt x="24600" y="1400"/>
                </a:lnTo>
                <a:lnTo>
                  <a:pt x="1400" y="1400"/>
                </a:lnTo>
                <a:close/>
              </a:path>
              <a:path fill="darken" w="26000" h="21600">
                <a:moveTo>
                  <a:pt x="26000" y="0"/>
                </a:moveTo>
                <a:lnTo>
                  <a:pt x="26000" y="21600"/>
                </a:lnTo>
                <a:lnTo>
                  <a:pt x="24600" y="20200"/>
                </a:lnTo>
                <a:lnTo>
                  <a:pt x="24600" y="1400"/>
                </a:lnTo>
                <a:close/>
              </a:path>
              <a:path fill="darkenLess" w="26000" h="21600">
                <a:moveTo>
                  <a:pt x="2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0" y="20200"/>
                </a:lnTo>
                <a:close/>
              </a:path>
              <a:path fill="lighten" w="2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00" h="21600">
                <a:moveTo>
                  <a:pt x="5994" y="8406"/>
                </a:moveTo>
                <a:lnTo>
                  <a:pt x="10424" y="8406"/>
                </a:lnTo>
                <a:lnTo>
                  <a:pt x="14845" y="3794"/>
                </a:lnTo>
                <a:lnTo>
                  <a:pt x="14845" y="17806"/>
                </a:lnTo>
                <a:lnTo>
                  <a:pt x="10424" y="13194"/>
                </a:lnTo>
                <a:lnTo>
                  <a:pt x="5994" y="13194"/>
                </a:lnTo>
                <a:close/>
              </a:path>
              <a:path fill="darken" w="26000" h="21600">
                <a:moveTo>
                  <a:pt x="16499" y="10800"/>
                </a:moveTo>
                <a:lnTo>
                  <a:pt x="20006" y="10800"/>
                </a:lnTo>
              </a:path>
              <a:path fill="darken" w="26000" h="21600">
                <a:moveTo>
                  <a:pt x="16499" y="8406"/>
                </a:moveTo>
                <a:lnTo>
                  <a:pt x="20006" y="5639"/>
                </a:lnTo>
              </a:path>
              <a:path fill="darken" w="26000" h="21600">
                <a:moveTo>
                  <a:pt x="16499" y="13194"/>
                </a:moveTo>
                <a:lnTo>
                  <a:pt x="200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268360" y="1628640"/>
            <a:ext cx="4896000" cy="17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班级目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1075320" y="0"/>
            <a:ext cx="2191320" cy="6858000"/>
          </a:xfrm>
          <a:prstGeom prst="rect">
            <a:avLst/>
          </a:prstGeom>
          <a:solidFill>
            <a:srgbClr val="f91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不比聪明比勤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52680" y="0"/>
            <a:ext cx="2191320" cy="6858000"/>
          </a:xfrm>
          <a:prstGeom prst="rect">
            <a:avLst/>
          </a:prstGeom>
          <a:solidFill>
            <a:srgbClr val="f913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新魏"/>
              </a:rPr>
              <a:t>不比基础比进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1557360"/>
            <a:ext cx="676908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初中进入高中学习有一个过渡期，但是纪律卫生不存在过渡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纪律卫生上我们讲求一个字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严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学习中我们讲求一个字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6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3T02:31:3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19:06Z</dcterms:modified>
  <cp:revision>5</cp:revision>
  <dc:subject>主题班会课件(分28大类): http://shop62905894.taobao.com</dc:subject>
  <dc:title>主题班会课件(分28大类): http://shop62905894.taobao.com</dc:title>
</cp:coreProperties>
</file>